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star-trek-1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D80-2E0C-4CA9-A866-A670DC51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9C3-413E-40F7-A2C4-083F88CA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58F-0590-4EB5-9BD4-C36F1684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267-8893-40E1-ABAD-84741937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EA6-6419-4848-BAD1-3CE0BBB4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53E0-5707-45CD-837B-EA3C802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6C5-A9C0-4720-8EF6-65A33CFB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26B-3BEC-4996-A772-E6B1B487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602E-110C-4087-9548-198BBF4C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9C9C-05EC-4960-9B6A-B4157FC6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2E4C-116F-43E9-8257-C0DA197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E9F-5AC3-48FE-9DC5-55714C1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BFC5-409F-49B3-99B1-46B4C7F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C99E-DD10-4EF4-87A1-02D269D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2A4-37ED-4F44-9C0E-E1EA84D1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B0F-E983-455F-9237-0C2EA611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380E-869A-4FDF-A2D4-47F0E9AA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549-483B-4A73-A508-FA563D5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621-7A1D-481A-AC22-668BF3C7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B61-9702-4A4C-A727-95B305C3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B71-12C8-4612-B410-A5BADFF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1C6-68DB-4CAD-8BC3-8E74DA8E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C1E-1888-4B8A-B423-28ACC0EA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00A-9AEA-4F9E-863D-118C4FF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91919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293-981A-49DF-A1CB-6130B911D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0"/>
            <a:ext cx="609480" cy="68580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600200"/>
            <a:ext cx="9144000" cy="6094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back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35080" y="1600200"/>
            <a:ext cx="603000" cy="63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3179880"/>
            <a:ext cx="9144000" cy="914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9" descr="logo-back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-20520" y="3159000"/>
            <a:ext cx="8715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91919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60F9-87CA-40A1-BDB7-02C58C9D086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tar-trek-1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ur Solar System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Write On Acti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-trek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209320"/>
            <a:ext cx="72756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planet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rightest planet in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0+ moons, 5 visible from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ong magnetic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ant red sp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ngs have 3 parts:  Halo Ring, Main Ring, Gossamer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jupiter"/>
          <p:cNvPicPr/>
          <p:nvPr/>
        </p:nvPicPr>
        <p:blipFill>
          <a:blip r:embed="rId1"/>
          <a:srcRect l="14831" t="16392" r="15208" b="14754"/>
          <a:stretch/>
        </p:blipFill>
        <p:spPr>
          <a:xfrm>
            <a:off x="6629400" y="0"/>
            <a:ext cx="2514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240" y="2209320"/>
            <a:ext cx="75805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autiful set of r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1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moon, Titan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sily visible in the night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yager explored Saturn and its 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saturn_false_s"/>
          <p:cNvPicPr/>
          <p:nvPr/>
        </p:nvPicPr>
        <p:blipFill>
          <a:blip r:embed="rId1"/>
          <a:srcRect l="0" t="7720" r="0" b="0"/>
          <a:stretch/>
        </p:blipFill>
        <p:spPr>
          <a:xfrm>
            <a:off x="6410160" y="154080"/>
            <a:ext cx="25052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240" y="2209320"/>
            <a:ext cx="71233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a faint r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7 known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lou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ranus sits on its side with the north and south poles sticking out the si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6" descr="uranus"/>
          <p:cNvPicPr/>
          <p:nvPr/>
        </p:nvPicPr>
        <p:blipFill>
          <a:blip r:embed="rId1"/>
          <a:srcRect l="15208" t="13116" r="20910" b="18030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240" y="2209320"/>
            <a:ext cx="75042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vered through m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known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iton largest m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Dark Spot thought to be a hole, similar to the hole in the ozone layer on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6" descr="neptune"/>
          <p:cNvPicPr/>
          <p:nvPr/>
        </p:nvPicPr>
        <p:blipFill>
          <a:blip r:embed="rId1"/>
          <a:srcRect l="15208" t="19679" r="17870" b="18030"/>
          <a:stretch/>
        </p:blipFill>
        <p:spPr>
          <a:xfrm>
            <a:off x="6705720" y="152280"/>
            <a:ext cx="2209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warf Plane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uto, the dwarf planet, is a small solid icy planet that is smaller than the Earth's Mo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ary object from su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ver visited by spacecra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bits very slow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on, Charon, is very close to Pluto and about the sam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" descr="pluto"/>
          <p:cNvPicPr/>
          <p:nvPr/>
        </p:nvPicPr>
        <p:blipFill>
          <a:blip r:embed="rId1"/>
          <a:srcRect l="15208" t="19679" r="17870" b="14754"/>
          <a:stretch/>
        </p:blipFill>
        <p:spPr>
          <a:xfrm>
            <a:off x="7315200" y="0"/>
            <a:ext cx="1828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tero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2640" y="1676520"/>
            <a:ext cx="70102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ll bo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lieved to be left over from the beginning of the solar system billions of years 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0,000 asteroids lie in  belt between Mars and Jupi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asteroids have been given na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6" descr="gaspracol_s"/>
          <p:cNvPicPr/>
          <p:nvPr/>
        </p:nvPicPr>
        <p:blipFill>
          <a:blip r:embed="rId1"/>
          <a:srcRect l="0" t="0" r="0" b="16667"/>
          <a:stretch/>
        </p:blipFill>
        <p:spPr>
          <a:xfrm>
            <a:off x="7086600" y="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ll icy bo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vel past the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ve off gas and dust as they pass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8" descr="halray_s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ctiv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209320"/>
            <a:ext cx="719928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a 5 paragraph essay about the solar system.  Include the facts covered in this present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ue Monday – will have computers tomorrow during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ARTH AND SPACE SCIENCE Tennessee Standard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ent Standard: 7.0 Earth and Its Place in the Unive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udent will investigate the structure of the univers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ing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.1 Recognize the basic components of the univer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Our Solar Syst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7720" y="1752120"/>
            <a:ext cx="559908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ur solar system is made up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ne plane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ir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tero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e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Inner Planet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2600" y="1828800"/>
            <a:ext cx="506592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nner four rocky planets at the center of the solar system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et nearest the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smallest pl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ra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no moons or 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bout size of Earth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 m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mercury"/>
          <p:cNvPicPr/>
          <p:nvPr/>
        </p:nvPicPr>
        <p:blipFill>
          <a:blip r:embed="rId1"/>
          <a:srcRect l="15208" t="19679" r="14831" b="21317"/>
          <a:stretch/>
        </p:blipFill>
        <p:spPr>
          <a:xfrm>
            <a:off x="6781680" y="0"/>
            <a:ext cx="23623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ster planet to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no moons or 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t, thick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rightest object in sky besides sun and moon (looks like bright s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raters, volcanoes, and mount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venus"/>
          <p:cNvPicPr/>
          <p:nvPr/>
        </p:nvPicPr>
        <p:blipFill>
          <a:blip r:embed="rId1"/>
          <a:srcRect l="14831" t="16392" r="24337" b="14754"/>
          <a:stretch/>
        </p:blipFill>
        <p:spPr>
          <a:xfrm>
            <a:off x="7039080" y="0"/>
            <a:ext cx="210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nly planet known to have life and liquid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mosphere composed of composed of Nitrogen (78%), Oxygen (21%), and other gases (1%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earth"/>
          <p:cNvPicPr/>
          <p:nvPr/>
        </p:nvPicPr>
        <p:blipFill>
          <a:blip r:embed="rId1"/>
          <a:srcRect l="19164" t="9840" r="17870" b="14754"/>
          <a:stretch/>
        </p:blipFill>
        <p:spPr>
          <a:xfrm>
            <a:off x="7086600" y="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ppears as bright reddish color in the night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rface features volcanoes and huge dust st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2 moons:  Phobos and Deim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6" descr="mars"/>
          <p:cNvPicPr/>
          <p:nvPr/>
        </p:nvPicPr>
        <p:blipFill>
          <a:blip r:embed="rId1"/>
          <a:srcRect l="18258" t="16392" r="17870" b="14754"/>
          <a:stretch/>
        </p:blipFill>
        <p:spPr>
          <a:xfrm>
            <a:off x="6629400" y="152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Outer Plane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outer planets composed of gas a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4:00:51Z</dcterms:created>
  <dc:creator>Connie Campbell</dc:creator>
  <dc:description/>
  <dc:language>en-US</dc:language>
  <cp:lastModifiedBy>St. Aloysius</cp:lastModifiedBy>
  <dcterms:modified xsi:type="dcterms:W3CDTF">2013-03-14T17:53:32Z</dcterms:modified>
  <cp:revision>16</cp:revision>
  <dc:subject/>
  <dc:title>Our Solar System</dc:title>
</cp:coreProperties>
</file>